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8AF-9050-45DD-A2BC-D8479FF4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B83-A0FB-43A7-8EF3-6F9EAE9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1BF-AA49-4CDF-95A7-8F8BB7BA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3E1-E765-4074-91C0-397D1B01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9F4-B290-40C5-8E6D-BCC4316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D02-2F49-4BCE-AA68-B81D25C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5D0-B857-4715-8F78-0CFAA32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A56-EBDB-418C-B331-EC61887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A19-41DD-4383-A10A-6707645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D57-9894-4880-BE90-B3B8A7B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AE9-8646-48FF-838B-5E427F4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327-3394-46FF-94FF-3CFC226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3CE5-896C-41A1-B7C9-5F77FEF2AC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154F-0423-4945-8F6A-CC4E7C7F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-2488680"/>
            <a:ext cx="2062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ondoMDP"/>
          <p:cNvPicPr/>
          <p:nvPr/>
        </p:nvPicPr>
        <p:blipFill>
          <a:blip r:embed="rId3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4400" y="638172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25856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700360" y="115920"/>
            <a:ext cx="2808360" cy="304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549360"/>
            <a:ext cx="4847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MPLEJIDAD 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LANIFICACION SAN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N EL A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353-FF1A-4240-9B4F-D94B04CA12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1197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476280"/>
            <a:ext cx="52578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00"/>
                </a:solidFill>
                <a:latin typeface="HelveticaNeue-Roman"/>
              </a:rPr>
              <a:t>Naturaleza 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00"/>
                </a:solidFill>
                <a:latin typeface="HelveticaNeue-Roman"/>
              </a:rPr>
              <a:t>Objetivos y me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00"/>
                </a:solidFill>
                <a:latin typeface="HelveticaNeue-Roman"/>
              </a:rPr>
              <a:t>Viabilidad -  Estrategias -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9960" y="2133720"/>
            <a:ext cx="172404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Contexto 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5760" y="3429000"/>
            <a:ext cx="16002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E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9960" y="4653000"/>
            <a:ext cx="17953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Context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83160" y="3429000"/>
            <a:ext cx="16002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Redifin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y Polít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31080" y="234936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HelveticaNeue-Roman"/>
              </a:rPr>
              <a:t>Objetiv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HelveticaNeue-Roman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58136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HelveticaNeue-Roman"/>
              </a:rPr>
              <a:t>Interve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HelveticaNeue-Roman"/>
              </a:rPr>
              <a:t>respons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4080" y="3213000"/>
            <a:ext cx="1600200" cy="106704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00"/>
                </a:solidFill>
                <a:latin typeface="HelveticaNeue-Roman"/>
              </a:rPr>
              <a:t>Acuer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00"/>
                </a:solidFill>
                <a:latin typeface="HelveticaNeue-Roman"/>
              </a:rPr>
              <a:t>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00"/>
                </a:solidFill>
                <a:latin typeface="HelveticaNeue-Roman"/>
              </a:rPr>
              <a:t>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9760" y="3068640"/>
            <a:ext cx="1600200" cy="144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HelveticaNeue-Roman"/>
              </a:rPr>
              <a:t>Sit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2760" y="45813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82760" y="5013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11000" y="25653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136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3789360"/>
            <a:ext cx="1152360" cy="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27813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06640" y="414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993080" y="5516640"/>
            <a:ext cx="971640" cy="93348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 flipV="1" rot="16200000">
            <a:off x="6982920" y="2221920"/>
            <a:ext cx="838800" cy="1143720"/>
          </a:xfrm>
          <a:prstGeom prst="bentConnector3">
            <a:avLst>
              <a:gd name="adj1" fmla="val 127264"/>
            </a:avLst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7" idx="2"/>
            <a:endCxn id="159" idx="3"/>
          </p:cNvCxnSpPr>
          <p:nvPr/>
        </p:nvCxnSpPr>
        <p:spPr>
          <a:xfrm flipH="1" flipV="1" rot="5400000">
            <a:off x="7764840" y="3347280"/>
            <a:ext cx="1140840" cy="724680"/>
          </a:xfrm>
          <a:prstGeom prst="bentConnector4">
            <a:avLst>
              <a:gd name="adj1" fmla="val -90498"/>
              <a:gd name="adj2" fmla="val 142097"/>
            </a:avLst>
          </a:prstGeom>
          <a:ln w="0">
            <a:noFill/>
          </a:ln>
        </p:spPr>
      </p:cxnSp>
      <p:cxnSp>
        <p:nvCxnSpPr>
          <p:cNvPr id="180" name=""/>
          <p:cNvCxnSpPr>
            <a:stCxn id="167" idx="2"/>
            <a:endCxn id="166" idx="3"/>
          </p:cNvCxnSpPr>
          <p:nvPr/>
        </p:nvCxnSpPr>
        <p:spPr>
          <a:xfrm rot="5400000">
            <a:off x="7470000" y="4421160"/>
            <a:ext cx="645120" cy="362520"/>
          </a:xfrm>
          <a:prstGeom prst="bentConnector2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995640" y="364500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61" idx="3"/>
            <a:endCxn id="164" idx="0"/>
          </p:cNvCxnSpPr>
          <p:nvPr/>
        </p:nvCxnSpPr>
        <p:spPr>
          <a:xfrm>
            <a:off x="3563640" y="2476440"/>
            <a:ext cx="1819800" cy="9532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>
            <a:off x="3419280" y="4141440"/>
            <a:ext cx="1943640" cy="8006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0" idx="1"/>
            <a:endCxn id="168" idx="0"/>
          </p:cNvCxnSpPr>
          <p:nvPr/>
        </p:nvCxnSpPr>
        <p:spPr>
          <a:xfrm flipV="1" rot="10800000">
            <a:off x="1038960" y="970200"/>
            <a:ext cx="724680" cy="2097360"/>
          </a:xfrm>
          <a:prstGeom prst="bentConnector2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52A-5C41-4A29-BD31-584646B5D7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1912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iz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uerdo Marco de Comple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trumentos compartidos de planificación y distribución de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rantía de sustentabilidad de la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gración horizontal y complementación de servicios asistenciales y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lación evidencias/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81120" y="31896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PLANIFICACION SANITARIA EN EL 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45F-9B82-47C4-9BEF-50245F08C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fondoMDP"/>
          <p:cNvPicPr/>
          <p:nvPr/>
        </p:nvPicPr>
        <p:blipFill>
          <a:blip r:embed="rId3"/>
          <a:stretch/>
        </p:blipFill>
        <p:spPr>
          <a:xfrm>
            <a:off x="0" y="0"/>
            <a:ext cx="9906120" cy="699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72400" y="317664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732720" y="256536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93920" y="1386000"/>
            <a:ext cx="668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Calibri"/>
              </a:rPr>
              <a:t>GRACIAS POR SU ATEN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ACD-1E1B-4627-B0E8-047D1F901D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alibri"/>
              </a:rPr>
              <a:t>AMBA - CARACTERI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646128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341360"/>
            <a:ext cx="4429080" cy="395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Transi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Epidemiológ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Demográf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Tecnológ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en la Gestión de los Sistemas y 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Segmentación pobla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Segregación socio --espacial y fragmentación 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Poca injerencia de Salud en las Políticas Pub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Escasa planificación y fragmentación institu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Desigualdad  y dualidad entre sectores sociales excluidos e incluidos en la Atención de la 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Falta de abordaje Integrado e Integ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Sustentabilidad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Flujos de demanda cruz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Asimetrías en capacidad insta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993300"/>
                </a:solidFill>
                <a:latin typeface="Calibri"/>
              </a:rPr>
              <a:t>Superposición de recursos y Tecnología Sa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4248360" cy="1582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Ciudad de Buenos Aires y Área Metropoli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Ciudad: 3.050.028 habit. ( 7.60 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AMBA : 12.548.638 hab. ( 31.27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Argentina: 40.134.425 hab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229360"/>
            <a:ext cx="5976720" cy="368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ffffcc"/>
                </a:solidFill>
                <a:latin typeface="Calibri"/>
              </a:rPr>
              <a:t>2.000.000 personas entran y salen diar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761-DC0D-40DE-B934-5BE0752CA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3240000" cy="151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SE DE INDUSTRI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930-1970): SE DENSIFICA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ÁREA CENTRAL Y SE CONSO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L CON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050920"/>
            <a:ext cx="3384720" cy="21020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L CICLO DE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Y TRANSICIÓN (1970-199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 DESINDUSTRIALIZACIÓ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 DECADENCIA DEL CENT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 PRECARIZACIÓN DE 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FERIAS Y LOS NUE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ODOS DE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11480"/>
            <a:ext cx="3529080" cy="1219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 FASE DE INSERCIÓN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Y REESTRUCTUR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Y SOCIOESPACIAL DEL AM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990 - PRES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alibri"/>
              </a:rPr>
              <a:t>AMBA – FASES DE EVOLUC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00400">
            <a:off x="3727440" y="1224000"/>
            <a:ext cx="1944720" cy="71928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543000">
            <a:off x="4183560" y="3998160"/>
            <a:ext cx="863640" cy="1513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86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77A-BCDE-4BE0-B4D1-18CD61BED6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alibri"/>
              </a:rPr>
              <a:t>LAS DIMENSIONES ESPACIALES DEL A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7343640" cy="43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406800">
            <a:off x="3131640" y="2280960"/>
            <a:ext cx="2078280" cy="14382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54600">
            <a:off x="1468440" y="2022480"/>
            <a:ext cx="4660920" cy="218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461800">
            <a:off x="3565440" y="2924280"/>
            <a:ext cx="1727280" cy="2887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53800">
            <a:off x="403200" y="1937880"/>
            <a:ext cx="6235560" cy="299736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2F5-01FB-4455-87BB-639497F542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17160" y="6461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3816360" cy="277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35280" y="2709720"/>
            <a:ext cx="122400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989000"/>
            <a:ext cx="503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048800">
            <a:off x="2160360" y="2600280"/>
            <a:ext cx="432000" cy="216000"/>
          </a:xfrm>
          <a:custGeom>
            <a:avLst/>
            <a:gdLst>
              <a:gd name="textAreaLeft" fmla="*/ 75600 w 432000"/>
              <a:gd name="textAreaRight" fmla="*/ 313200 w 43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5004800">
            <a:off x="2856600" y="2480400"/>
            <a:ext cx="349200" cy="230040"/>
          </a:xfrm>
          <a:custGeom>
            <a:avLst/>
            <a:gdLst>
              <a:gd name="textAreaLeft" fmla="*/ 60840 w 349200"/>
              <a:gd name="textAreaRight" fmla="*/ 253080 w 3492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75400">
            <a:off x="2276640" y="2204640"/>
            <a:ext cx="350640" cy="157320"/>
          </a:xfrm>
          <a:custGeom>
            <a:avLst/>
            <a:gdLst>
              <a:gd name="textAreaLeft" fmla="*/ 61200 w 350640"/>
              <a:gd name="textAreaRight" fmla="*/ 254160 w 350640"/>
              <a:gd name="textAreaTop" fmla="*/ 20880 h 157320"/>
              <a:gd name="textAreaBottom" fmla="*/ 136440 h 15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2637000"/>
            <a:ext cx="576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0040" y="407664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alibri"/>
              </a:rPr>
              <a:t>AMBA. Asentamientos G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003640" y="333360"/>
            <a:ext cx="3170520" cy="210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5400" y="486900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ANDA  - CONSU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00720" y="2852640"/>
            <a:ext cx="3338280" cy="32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48000" y="90792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5080" y="2133720"/>
            <a:ext cx="792360" cy="1295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496960"/>
            <a:ext cx="3816360" cy="43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sultas de residentes del conurbano por hospit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Hospitales de la CABA.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112680"/>
            <a:ext cx="1979640" cy="58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sultas según residencia en porcentajes. Hospitales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ABA -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CDC-6779-4E13-8E67-E9FA05A572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17160" y="6461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3816360" cy="2779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2709720"/>
            <a:ext cx="136836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1989000"/>
            <a:ext cx="503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048800">
            <a:off x="2160360" y="2600280"/>
            <a:ext cx="432000" cy="216000"/>
          </a:xfrm>
          <a:custGeom>
            <a:avLst/>
            <a:gdLst>
              <a:gd name="textAreaLeft" fmla="*/ 75600 w 432000"/>
              <a:gd name="textAreaRight" fmla="*/ 313200 w 43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5004800">
            <a:off x="2856600" y="2480400"/>
            <a:ext cx="349200" cy="230040"/>
          </a:xfrm>
          <a:custGeom>
            <a:avLst/>
            <a:gdLst>
              <a:gd name="textAreaLeft" fmla="*/ 60840 w 349200"/>
              <a:gd name="textAreaRight" fmla="*/ 253080 w 3492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875400">
            <a:off x="2276640" y="2204640"/>
            <a:ext cx="350640" cy="157320"/>
          </a:xfrm>
          <a:custGeom>
            <a:avLst/>
            <a:gdLst>
              <a:gd name="textAreaLeft" fmla="*/ 61200 w 350640"/>
              <a:gd name="textAreaRight" fmla="*/ 254160 w 350640"/>
              <a:gd name="textAreaTop" fmla="*/ 20880 h 157320"/>
              <a:gd name="textAreaBottom" fmla="*/ 136440 h 15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32000" y="44280"/>
          <a:ext cx="5046840" cy="309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44280"/>
                    <a:ext cx="50468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843280" y="2565360"/>
            <a:ext cx="576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809000">
            <a:off x="2339640" y="1125000"/>
            <a:ext cx="1785960" cy="863640"/>
          </a:xfrm>
          <a:custGeom>
            <a:avLst/>
            <a:gdLst>
              <a:gd name="textAreaLeft" fmla="*/ 312480 w 1785960"/>
              <a:gd name="textAreaRight" fmla="*/ 1294920 w 178596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708360" y="2635200"/>
          <a:ext cx="5295960" cy="36734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2635200"/>
                    <a:ext cx="52959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82440" y="407664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Calibri"/>
              </a:rPr>
              <a:t>AMBA. Asentamientos G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484280"/>
            <a:ext cx="936720" cy="2449440"/>
          </a:xfrm>
          <a:custGeom>
            <a:avLst/>
            <a:gdLst>
              <a:gd name="textAreaLeft" fmla="*/ 125280 w 936720"/>
              <a:gd name="textAreaRight" fmla="*/ 811440 w 936720"/>
              <a:gd name="textAreaTop" fmla="*/ 428400 h 2449440"/>
              <a:gd name="textAreaBottom" fmla="*/ 177588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0560" y="4869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ANDA  - E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4C4-FC32-498A-B016-C645D703B2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189000"/>
          <a:ext cx="6958080" cy="422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6958080" cy="42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50920" y="4076640"/>
            <a:ext cx="554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51% de estos egresos proviene de población que re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abitualmente en la CABA,  41% pertene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oblación residente en el conurbano bonaerense, 4%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sidentes del resto de la provincia de Buenos Aires, 1 %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sidentes en otras provincias y 3 % de los egresos no tie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gistrado el lugar de residencia del pa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22% de egresos provenientes del conurbano son por Embarazo, Parto y Perina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72360" y="4005360"/>
            <a:ext cx="2592360" cy="1593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00720" y="3573360"/>
            <a:ext cx="266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Calibri"/>
              </a:rPr>
              <a:t>Egresos totales de hospitales de la CABA por tipo de establecimiento. Año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96F-069B-4F4C-87E4-D5CBCC93A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1440" y="620640"/>
            <a:ext cx="2950920" cy="266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27640" y="692280"/>
            <a:ext cx="414000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as por 1000 hab. Conurbano ampliado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500280"/>
            <a:ext cx="2950920" cy="185148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600 nuevas camas en La Mat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Ciudad Ev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Laferr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Rafael Cal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100 nuevas camas en Ituzain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  </a:t>
            </a: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100 nuevas camas en Esc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Calibri"/>
              </a:rPr>
              <a:t>100 nuevas camas en E. Echever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780200">
            <a:off x="-108360" y="2132280"/>
            <a:ext cx="1726920" cy="1008000"/>
          </a:xfrm>
          <a:custGeom>
            <a:avLst/>
            <a:gdLst>
              <a:gd name="textAreaLeft" fmla="*/ 302040 w 1726920"/>
              <a:gd name="textAreaRight" fmla="*/ 1252080 w 17269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18000" y="115920"/>
            <a:ext cx="54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MBA – ESTRATEGIAS DE INTERV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2009880"/>
            <a:ext cx="3095640" cy="1425240"/>
          </a:xfrm>
          <a:prstGeom prst="rect">
            <a:avLst/>
          </a:prstGeom>
          <a:gradFill rotWithShape="0">
            <a:gsLst>
              <a:gs pos="0">
                <a:srgbClr val="3a6565"/>
              </a:gs>
              <a:gs pos="50000">
                <a:srgbClr val="7edcdc"/>
              </a:gs>
              <a:gs pos="100000">
                <a:srgbClr val="3a65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Estructura de servicios asistenci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34 hospitales municip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4 Hospitales Nacion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42 Hospitales provincial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16360" y="1015920"/>
          <a:ext cx="3097080" cy="5221440"/>
        </p:xfrm>
        <a:graphic>
          <a:graphicData uri="http://schemas.openxmlformats.org/drawingml/2006/table">
            <a:tbl>
              <a:tblPr/>
              <a:tblGrid>
                <a:gridCol w="1873080"/>
                <a:gridCol w="1224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as por mil ha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zaing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rling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l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 Echever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Matan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ob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e C. Pa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razategu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 de Febr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mirante Br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. Var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ei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Isid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ferna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Mar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e. Per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nte Lop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llane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mas de Zamo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268360" y="1484280"/>
            <a:ext cx="3240360" cy="64944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7476"/>
                <a:lnTo>
                  <a:pt x="21170" y="14418"/>
                </a:lnTo>
                <a:lnTo>
                  <a:pt x="17280" y="21600"/>
                </a:lnTo>
                <a:lnTo>
                  <a:pt x="12530" y="14418"/>
                </a:lnTo>
                <a:lnTo>
                  <a:pt x="14690" y="14418"/>
                </a:lnTo>
                <a:arcTo wR="7560" hR="21600" stAng="-2712524" swAng="-233004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dcd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1268280"/>
            <a:ext cx="5032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2133720"/>
            <a:ext cx="503280" cy="71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FFD-60A0-4FC9-A8F7-55F232EF4A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435640" y="692280"/>
            <a:ext cx="3166920" cy="186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4360" y="1773360"/>
            <a:ext cx="4032000" cy="345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3203640" y="2060640"/>
            <a:ext cx="22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00360" y="2205000"/>
            <a:ext cx="27352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55640" y="2349360"/>
            <a:ext cx="28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68360" y="1844280"/>
            <a:ext cx="316728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1700280"/>
            <a:ext cx="3311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634920" y="2492280"/>
            <a:ext cx="1800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292428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355920"/>
            <a:ext cx="3603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328464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2920" y="364500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003560"/>
            <a:ext cx="3603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500280"/>
            <a:ext cx="3603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842920" y="1989000"/>
            <a:ext cx="25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28464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19560" y="2593800"/>
            <a:ext cx="3872160" cy="2631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7 Unidades de Pronta Atencion (U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20 e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Ubicadas en zonas urbano - marg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Shock Room – Estabilizacion &lt; 8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Derivacion según triage de in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Calibri"/>
              </a:rPr>
              <a:t>Laboratorio- RX- Farmacia – TC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55440" y="115920"/>
            <a:ext cx="53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AMBA – ESTRATEGIAS DE INTERV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44920" y="4724280"/>
            <a:ext cx="3327840" cy="1079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Calibri"/>
              </a:rPr>
              <a:t>UPA Lomas (V. Fiorito) = 300 consultas/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Calibri"/>
              </a:rPr>
              <a:t>5% eme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Calibri"/>
              </a:rPr>
              <a:t>2% derivaciones a Hos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Calibri"/>
              </a:rPr>
              <a:t>Reorientación a CAPS reg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860640"/>
            <a:ext cx="2664000" cy="11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14A-9DD0-4D71-948E-C4F9F44E8E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Colossus User</cp:lastModifiedBy>
  <dcterms:modified xsi:type="dcterms:W3CDTF">2011-09-14T02:38:22Z</dcterms:modified>
  <cp:revision>10</cp:revision>
  <dc:subject/>
  <dc:title>Diapositiva 1</dc:title>
</cp:coreProperties>
</file>